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143-4225-448C-BCBA-BAD8EBDD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3DE-BE7B-4ECA-91D3-84FA0380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586-06F0-4996-8A5B-787FA007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C49-C3DC-4C7F-9456-1B94EF2D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A0C-CED7-45DA-AAB1-EA810614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F3C-13D2-4539-A4BE-2CDEE7CF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787-7C63-4814-A85B-34223EBD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4FED-1C62-4428-8318-39DFF0A5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671-42B4-4567-8B43-7DCB42F8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788-9727-4AB0-9FE1-94CDEFCC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39A-9B55-4F46-B74F-5AD4B9A1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378-B76A-4B0D-BB4F-C2BAD133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3990-ACB9-47E8-ABB8-DC7EFE500B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stat17.privet.ru/lr/0a10fc5d2f2f3d6dbf64bf1885887f15" TargetMode="External"/><Relationship Id="rId4" Type="http://schemas.openxmlformats.org/officeDocument/2006/relationships/hyperlink" Target="http://www.foto-tapeta.org/panel/dane/galeria/z3p5epgjfu.jpg" TargetMode="External"/><Relationship Id="rId5" Type="http://schemas.openxmlformats.org/officeDocument/2006/relationships/hyperlink" Target="http://img0.liveinternet.ru/images/attach/c/9/106/972/106972030_sova_.png" TargetMode="External"/><Relationship Id="rId6" Type="http://schemas.openxmlformats.org/officeDocument/2006/relationships/hyperlink" Target="http://easyen.ru/load/metodika/k_prezentacijam/kollekcija_ramok_dlja_sozdanija_prezentacij/277-1-0-21925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3"/>
          <a:stretch/>
        </p:blipFill>
        <p:spPr>
          <a:xfrm>
            <a:off x="1206360" y="2097000"/>
            <a:ext cx="7334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рок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4" descr="z3p5epgjfu.jpg"/>
          <p:cNvPicPr/>
          <p:nvPr/>
        </p:nvPicPr>
        <p:blipFill>
          <a:blip r:embed="rId4"/>
          <a:stretch/>
        </p:blipFill>
        <p:spPr>
          <a:xfrm>
            <a:off x="6858000" y="4071960"/>
            <a:ext cx="1727280" cy="2251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106972030_sova_.png"/>
          <p:cNvPicPr/>
          <p:nvPr/>
        </p:nvPicPr>
        <p:blipFill>
          <a:blip r:embed="rId5"/>
          <a:stretch/>
        </p:blipFill>
        <p:spPr>
          <a:xfrm>
            <a:off x="642960" y="4286160"/>
            <a:ext cx="1763640" cy="2067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2571840" y="564372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Автор-Костенко Наталья  Владими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ставляем в клеточки буквы ответа. На каждую букву ставим анимацию Появление. Направление – слев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Рисунок 5" descr="Новый рисунок (7).bmp"/>
          <p:cNvPicPr/>
          <p:nvPr/>
        </p:nvPicPr>
        <p:blipFill>
          <a:blip r:embed="rId3"/>
          <a:stretch/>
        </p:blipFill>
        <p:spPr>
          <a:xfrm>
            <a:off x="1357200" y="2286000"/>
            <a:ext cx="6572520" cy="39067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90" name="Прямая со стрелкой 6"/>
          <p:cNvCxnSpPr/>
          <p:nvPr/>
        </p:nvCxnSpPr>
        <p:spPr>
          <a:xfrm>
            <a:off x="6928920" y="271476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157140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кроссворде буквы появляются одна за другой. Поэтому на первую букву ставим Начало – по щелчку на карточку с вопросом, а на остальные – после предыдущего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станавливаем триггер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ремя – Переключатели – Начать выполнение при щелчке – Выбираем текст нашего вопроса – ОК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хотим, чтобы появилась картинка с ответом настраиваем триггер. Картинка появляется после того, как откроются буквы и исчезнет во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6" name="Рисунок 5" descr="Новый рисунок (8).bmp"/>
          <p:cNvPicPr/>
          <p:nvPr/>
        </p:nvPicPr>
        <p:blipFill>
          <a:blip r:embed="rId3"/>
          <a:stretch/>
        </p:blipFill>
        <p:spPr>
          <a:xfrm>
            <a:off x="1714680" y="2571840"/>
            <a:ext cx="5973480" cy="35719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97" name="Прямая со стрелкой 6"/>
          <p:cNvCxnSpPr/>
          <p:nvPr/>
        </p:nvCxnSpPr>
        <p:spPr>
          <a:xfrm>
            <a:off x="6500880" y="500076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8" name="Прямая со стрелкой 7"/>
          <p:cNvCxnSpPr/>
          <p:nvPr/>
        </p:nvCxnSpPr>
        <p:spPr>
          <a:xfrm>
            <a:off x="2857680" y="314316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Чтобы сделать следующий слайд, слева, в меню слайдов, правой кнопкой кликнем по сделанному нами слайду и выберем – Дублировать слайд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Рисунок 8" descr="Новый рисунок (9).bmp"/>
          <p:cNvPicPr/>
          <p:nvPr/>
        </p:nvPicPr>
        <p:blipFill>
          <a:blip r:embed="rId3"/>
          <a:stretch/>
        </p:blipFill>
        <p:spPr>
          <a:xfrm>
            <a:off x="1285920" y="2428920"/>
            <a:ext cx="6643800" cy="384660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103" name="Прямая со стрелкой 9"/>
          <p:cNvCxnSpPr/>
          <p:nvPr/>
        </p:nvCxnSpPr>
        <p:spPr>
          <a:xfrm>
            <a:off x="1714680" y="4785840"/>
            <a:ext cx="429120" cy="3582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твет на первый вопрос остаётся, но анимацию с букв надо убрать. В прямоугольнике с вопросом удаляем текст первого вопроса, вставляем новый. Меняем цифру ответа.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Рисунок 6" descr="Новый рисунок (10).bmp"/>
          <p:cNvPicPr/>
          <p:nvPr/>
        </p:nvPicPr>
        <p:blipFill>
          <a:blip r:embed="rId3"/>
          <a:stretch/>
        </p:blipFill>
        <p:spPr>
          <a:xfrm>
            <a:off x="1500120" y="2428920"/>
            <a:ext cx="6093000" cy="364320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108" name="Прямая со стрелкой 7"/>
          <p:cNvCxnSpPr/>
          <p:nvPr/>
        </p:nvCxnSpPr>
        <p:spPr>
          <a:xfrm>
            <a:off x="4000680" y="371484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о втором ответе буквы будут появляться сверху вниз, поэтому настроим появление букв «Сверху».На букву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«О»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,которая появилась в первом слове и есть во второй анимацию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е устанавливае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152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ублируем предыдущим слайд и продолжаем работу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е забудьте изменить гиперссылку на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нопке перехода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забудьте убрать смену слайдов по щелчку!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4" descr="Новый рисунок (11).bmp"/>
          <p:cNvPicPr/>
          <p:nvPr/>
        </p:nvPicPr>
        <p:blipFill>
          <a:blip r:embed="rId3"/>
          <a:stretch/>
        </p:blipFill>
        <p:spPr>
          <a:xfrm>
            <a:off x="1714680" y="2714760"/>
            <a:ext cx="5857560" cy="34909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114" name="Прямая со стрелкой 5"/>
          <p:cNvCxnSpPr/>
          <p:nvPr/>
        </p:nvCxnSpPr>
        <p:spPr>
          <a:xfrm>
            <a:off x="6143760" y="271476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Прямая со стрелкой 6"/>
          <p:cNvCxnSpPr/>
          <p:nvPr/>
        </p:nvCxnSpPr>
        <p:spPr>
          <a:xfrm>
            <a:off x="5071680" y="535788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152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конце работы делаем слайд со списком используемых источников. На нём размещаем ссылки на картинки, ссылки на страницы сайтов, откуда мы брали информацию для вопросов и указываем литературу, если мы брали информацию из книг. Ссылки должны быть прямыми и вести к источнику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7" descr="Новый рисунок (12).bmp"/>
          <p:cNvPicPr/>
          <p:nvPr/>
        </p:nvPicPr>
        <p:blipFill>
          <a:blip r:embed="rId3"/>
          <a:stretch/>
        </p:blipFill>
        <p:spPr>
          <a:xfrm>
            <a:off x="1785960" y="2786040"/>
            <a:ext cx="5894280" cy="35035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071800"/>
            <a:ext cx="82152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Домашнее задание:</a:t>
            </a:r>
            <a:br>
              <a:rPr sz="24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оздать интерактивный кроссворд с  5 словами( можно и больше)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TextBox 4" descr=""/>
          <p:cNvPicPr/>
          <p:nvPr/>
        </p:nvPicPr>
        <p:blipFill>
          <a:blip r:embed="rId3"/>
          <a:stretch/>
        </p:blipFill>
        <p:spPr>
          <a:xfrm>
            <a:off x="3444840" y="4584600"/>
            <a:ext cx="21812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нтернет-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14280" y="2286000"/>
            <a:ext cx="74296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tat17.privet.ru/lr/0a10fc5d2f2f3d6dbf64bf1885887f15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ф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foto-tapeta.org/panel/dane/galeria/z3p5epgjfu.jpg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зая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mg0.liveinternet.ru/images/attach/c/9/106/972/106972030_sova_.png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с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easyen.ru/load/metodika/k_prezentacijam/kollekcija_ramok_dlja_sozdanija_prezentacij/277-1-0-21925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-рамоч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928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ограмма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ower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oint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аёт возможность создавать различные виды кроссвордов. На первом уроке мы рассмотрим создание простого интерактивного кроссворда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 работе мы будем использовать: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                   - средства рисования;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- триггеры;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- анимацию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оздаём титульный слайд, на котором указываем название работы, класс, автор, устанавливаем управляющие кноп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96_VRR.jpg"/>
          <p:cNvPicPr/>
          <p:nvPr/>
        </p:nvPicPr>
        <p:blipFill>
          <a:blip r:embed="rId3"/>
          <a:stretch/>
        </p:blipFill>
        <p:spPr>
          <a:xfrm>
            <a:off x="2000160" y="2178000"/>
            <a:ext cx="5429520" cy="407196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52" name="Прямая со стрелкой 6"/>
          <p:cNvCxnSpPr/>
          <p:nvPr/>
        </p:nvCxnSpPr>
        <p:spPr>
          <a:xfrm flipH="1">
            <a:off x="6357600" y="5357880"/>
            <a:ext cx="357840" cy="4291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3" name="Прямая со стрелкой 7"/>
          <p:cNvCxnSpPr/>
          <p:nvPr/>
        </p:nvCxnSpPr>
        <p:spPr>
          <a:xfrm>
            <a:off x="2214720" y="550080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оздаём информационный слайд для ребят, в котором указываем, как пользоваться ресурс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Рисунок 5" descr="апенр.jpg"/>
          <p:cNvPicPr/>
          <p:nvPr/>
        </p:nvPicPr>
        <p:blipFill>
          <a:blip r:embed="rId3"/>
          <a:stretch/>
        </p:blipFill>
        <p:spPr>
          <a:xfrm>
            <a:off x="1857240" y="2143080"/>
            <a:ext cx="5500800" cy="412596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Переходим к рабочему слайду и создаём сетку кроссворда.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Вставка - фигуры -прямоуголь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Рисунок 5" descr="Новый рисунок (1).bmp"/>
          <p:cNvPicPr/>
          <p:nvPr/>
        </p:nvPicPr>
        <p:blipFill>
          <a:blip r:embed="rId3"/>
          <a:stretch/>
        </p:blipFill>
        <p:spPr>
          <a:xfrm>
            <a:off x="1571760" y="2286000"/>
            <a:ext cx="6572160" cy="39337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62" name="Прямая со стрелкой 8"/>
          <p:cNvCxnSpPr/>
          <p:nvPr/>
        </p:nvCxnSpPr>
        <p:spPr>
          <a:xfrm>
            <a:off x="2214720" y="307188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3" name="Прямая со стрелкой 10"/>
          <p:cNvCxnSpPr/>
          <p:nvPr/>
        </p:nvCxnSpPr>
        <p:spPr>
          <a:xfrm>
            <a:off x="1856880" y="207180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Переходим в средства рисования и задаём нашему прямоугольнику заливку фигуры, контур фиг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Рисунок 7" descr="Новый рисунок (2).bmp"/>
          <p:cNvPicPr/>
          <p:nvPr/>
        </p:nvPicPr>
        <p:blipFill>
          <a:blip r:embed="rId3"/>
          <a:stretch/>
        </p:blipFill>
        <p:spPr>
          <a:xfrm>
            <a:off x="1428840" y="2286000"/>
            <a:ext cx="6646680" cy="389088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68" name="Прямая со стрелкой 9"/>
          <p:cNvCxnSpPr/>
          <p:nvPr/>
        </p:nvCxnSpPr>
        <p:spPr>
          <a:xfrm>
            <a:off x="3285720" y="228600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9" name="Прямая со стрелкой 11"/>
          <p:cNvCxnSpPr/>
          <p:nvPr/>
        </p:nvCxnSpPr>
        <p:spPr>
          <a:xfrm>
            <a:off x="3571560" y="221472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0" name="Прямая со стрелкой 12"/>
          <p:cNvCxnSpPr/>
          <p:nvPr/>
        </p:nvCxnSpPr>
        <p:spPr>
          <a:xfrm>
            <a:off x="3142800" y="242892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опируем готовый прямоугольник и вставляем на слайд столько раз, сколько нам необходимо для сетк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Рисунок 10" descr="Новый рисунок (3).bmp"/>
          <p:cNvPicPr/>
          <p:nvPr/>
        </p:nvPicPr>
        <p:blipFill>
          <a:blip r:embed="rId3"/>
          <a:stretch/>
        </p:blipFill>
        <p:spPr>
          <a:xfrm>
            <a:off x="1214280" y="2071800"/>
            <a:ext cx="6929640" cy="412884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елаем сетку для кроссворда, используя прямоуголь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Рисунок 5" descr="Новый рисунок (4).bmp"/>
          <p:cNvPicPr/>
          <p:nvPr/>
        </p:nvPicPr>
        <p:blipFill>
          <a:blip r:embed="rId3"/>
          <a:stretch/>
        </p:blipFill>
        <p:spPr>
          <a:xfrm>
            <a:off x="1143000" y="2071800"/>
            <a:ext cx="6861240" cy="408780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2" name="Рисунок 5" descr="Новый рисунок (6).bmp"/>
          <p:cNvPicPr/>
          <p:nvPr/>
        </p:nvPicPr>
        <p:blipFill>
          <a:blip r:embed="rId3"/>
          <a:stretch/>
        </p:blipFill>
        <p:spPr>
          <a:xfrm>
            <a:off x="1428840" y="2143080"/>
            <a:ext cx="6810120" cy="407196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sp>
        <p:nvSpPr>
          <p:cNvPr id="83" name="TextBox 6"/>
          <p:cNvSpPr/>
          <p:nvPr/>
        </p:nvSpPr>
        <p:spPr>
          <a:xfrm>
            <a:off x="642960" y="500040"/>
            <a:ext cx="8215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фигурах выбираем стрелку, которая будет указывать на слово, и ставим номер вопроса. Оформляем прямоугольник с вопросом. Ответ будет появляться, когда мы нажмём на прямоугольник с вопрос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Прямая со стрелкой 7"/>
          <p:cNvCxnSpPr/>
          <p:nvPr/>
        </p:nvCxnSpPr>
        <p:spPr>
          <a:xfrm>
            <a:off x="3428640" y="2999880"/>
            <a:ext cx="429480" cy="3582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5" name="Прямая со стрелкой 8"/>
          <p:cNvCxnSpPr/>
          <p:nvPr/>
        </p:nvCxnSpPr>
        <p:spPr>
          <a:xfrm>
            <a:off x="4357800" y="407196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1T07:58:40Z</dcterms:created>
  <dc:creator>User</dc:creator>
  <dc:description/>
  <dc:language>en-US</dc:language>
  <cp:lastModifiedBy>User</cp:lastModifiedBy>
  <dcterms:modified xsi:type="dcterms:W3CDTF">2015-01-04T13:12:27Z</dcterms:modified>
  <cp:revision>12</cp:revision>
  <dc:subject/>
  <dc:title>Создание интерактивного кроссворда</dc:title>
</cp:coreProperties>
</file>